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298-CF76-4290-98E6-2F9A2D4E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BEF-F87F-46D3-A42E-78DCA467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73B-D6A4-450D-8AA8-977899F7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F2F-3FDA-4A89-80CD-0A3051FF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DF4E-D140-49EA-8831-E11D39F9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F752-C655-4502-AEB9-ABA9BE7D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1F59-5B63-480F-8D28-CC4AD023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C2A6-5859-4A13-95C8-47A60A19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8F92-90AA-43E4-8B06-4C588169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50C9-6CCD-49CB-B6BE-AD53DEDC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C50D-B59A-45FD-915D-8F347D16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980-65FF-45DC-A271-DD4D0F2F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9207-4E86-40CD-8124-E76FC54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C195-5213-421C-ABEE-41762181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9F1D-F860-4F1A-8DAD-86C7C82D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4AFF-5F23-44F1-B4BE-1545EAB1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D081-8FEF-4F70-93C1-78F12325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C44-1E1C-4818-8C0E-B563B168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1ED-C214-4211-84A1-4E004D0C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DDC-30C4-4630-9265-149FD6E4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31A-1F38-40A5-9E39-EBD21551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95A-3824-4003-9FF8-A1480DB0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A08-56EB-468D-AB7B-20D65AD9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12E-A17E-4863-A419-B587B770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942D-DA0E-4A8F-8237-8D1DE2115F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64BC-1834-4633-AC0E-BE9006BDC0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modul Projektno vod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ja Haz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 in 26.10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problema/prilož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ključuje socialne, gospodarske, politične pogoje v določenem območ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iza obstoječega stanja (študije, podatki, zakonodaja, rezultati prejšnjih projektov, statistični podatk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OT analiz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292716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30600" y="260280"/>
            <a:ext cx="5786280" cy="635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4319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266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 problemskega dre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-1103" b="60187"/>
          <a:stretch/>
        </p:blipFill>
        <p:spPr>
          <a:xfrm>
            <a:off x="2195640" y="18900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črtovanj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48520" cy="41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prav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problemsko dre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čni okvir projekta – pro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222800"/>
            <a:ext cx="78487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aj uporabiti logični ok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 identificiranje, pripravo, ocenjevanje, izvajanje, spremljanje in vrednotenje projek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6337440" cy="1942920"/>
          </a:xfrm>
          <a:prstGeom prst="flowChartDocument">
            <a:avLst/>
          </a:prstGeom>
          <a:solidFill>
            <a:srgbClr val="808080"/>
          </a:solidFill>
          <a:ln cap="rnd" w="381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zpolnjevanje matrike logičnega okv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je prvi korak pri prip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ojektne prij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21240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Logični okvir projekta – matr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128680"/>
                <a:gridCol w="2097360"/>
                <a:gridCol w="2097000"/>
                <a:gridCol w="19065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KA INTERVEN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KTIVNO PREVERLJIVI INDIKATOR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EDSTVA ZA PREVERJ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POSTAVKE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E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NI CI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EBNI CILJ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OŽENA       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-787" b="64007"/>
          <a:stretch/>
        </p:blipFill>
        <p:spPr>
          <a:xfrm>
            <a:off x="3008160" y="333360"/>
            <a:ext cx="5818320" cy="6243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4360" y="20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čni okvir – log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Namen projekta/ specifični cilj – čemu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dro oblikovanja projekta – začetna točka priprave logičnega okvi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mu je namenjen vaš proje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kšne spremembe želite doseči s projek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bi dosegli, če bi bili 100% uspeš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želimo na dolgi r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43640" y="4221000"/>
            <a:ext cx="150840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Že opravljeno del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ipravljeni anali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potreb na lokalnih trg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usposobljenosti institu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dentificirana projekt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/potenciali/prilož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rebe ciljne skup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230184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variti spodbudno podporno oko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i bo s krepitvijo podjetnosti in podjetni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ulture pri mladih v Gorenjski reg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alo na povečanje deleža mladih inovativnih podjetih v reg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ilj mora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cific (specifič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surable (merljiv v smislu, časa, kakovosti in dena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tinable (doseglj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listic (rea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bound (časovno opredelj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80000" y="3749760"/>
            <a:ext cx="3168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20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edel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namen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in ci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Načrtovanje akti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in za doseganje rezultatov in ciljev projek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, kdaj, kje ka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rt aktivnosti najbolj viden del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 prepodrobno, le sklopi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inančni, človeški in materialni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lična orod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WBS: strukturna členitev projek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Gant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režni dia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rminski nač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455920"/>
            <a:ext cx="8785440" cy="30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črtovanj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568720" cy="4588920"/>
        </p:xfrm>
        <a:graphic>
          <a:graphicData uri="http://schemas.openxmlformats.org/drawingml/2006/table">
            <a:tbl>
              <a:tblPr/>
              <a:tblGrid>
                <a:gridCol w="3097800"/>
                <a:gridCol w="960840"/>
                <a:gridCol w="808200"/>
                <a:gridCol w="1213920"/>
                <a:gridCol w="1434600"/>
                <a:gridCol w="10533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rt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. d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š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enje in koordin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is kulturne dedišč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zbor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ja in razši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4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Rez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zulta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do, na kakšen način bomo dosegali cilje (dolgoročni in takojšn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 ali storitve, kompetence in zmogljivosti, ki so direktni rezultat projektn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40360" y="40179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Kazalniki / indikatorji</a:t>
            </a:r>
            <a:r>
              <a:rPr b="0" lang="sl-SI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 njimi opisujemo, merimo količinske in kakovostne spreme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i definiranju indikatorjev upoštevajmo: QQTL (Quality, Quantity, Timing,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lity (pričakovana kakovost, način sprememb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ntity (pričakovan obseg sprememb, npr.: kolik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Timing (do kdaj se naj zgodi sprememb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Location (področje doseganja rezultatov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81296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dvidevanja/pogoji, tveganj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goji, okoliščine, zunanji dejavniki, ki lahko ogrozijo izvedbo projekta, vendar nanje nimamo neposrednega vpliva - zato jih je treba skrbno preuči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5923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Sredstva za verifikacijo/ preverjanj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vejo kje in v kakšni obliki lahko najdemo informacije o doseganju ciljev in rezultat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čne informacije, vprašalniki, analize, projektna dokumentacija, liste prisotnosti, zapisniki srečan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35640" y="4205160"/>
            <a:ext cx="31878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Še potreb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109600" cy="23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2203560"/>
            <a:ext cx="623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riprava projektnega predl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12 projektnih predlo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kuj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klope aktivnost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ši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ičakovane rezul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roizvodi, storitve, kompetence) projekta, ki bodo prispevali k ciljem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672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rašanj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25952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12 projektov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 članska interna strokovna komisija bo ocenjevala sklope in podsk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ene od 1-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1 = zelo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2 =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3 = sprejemljiv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4 = dobro 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5 = zelo do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inimalno število točk je 335 točk oziroma 67% vseh možnih toč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projektov 12 projekt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otencialnega nosilca in partnerj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60 toč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Ustreznost proj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7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rojektnih aktivnosti in  pričakovani rezult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100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Trajnost in potencialni učin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Finančni načrt in stroškovna učinkovit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ki – do kd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dokončne anal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i osnutek projektnega predl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o svet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0.11 2007 do 14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ončno oblikovani in posredovani projektni pred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1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jevanje projektnih predlo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03.01.2007 do 10.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33ff"/>
                </a:solidFill>
                <a:latin typeface="Arial"/>
              </a:rPr>
              <a:t>Matjaž Gol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im, Center razvoja človeških virov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breška cesta 20, 2000 Marib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lektronski naslov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m.golob@center-rcv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z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ijska f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načrtov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izv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zaklj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50520" y="1812960"/>
            <a:ext cx="4062240" cy="3836520"/>
            <a:chOff x="4250520" y="1812960"/>
            <a:chExt cx="4062240" cy="3836520"/>
          </a:xfrm>
        </p:grpSpPr>
        <p:grpSp>
          <p:nvGrpSpPr>
            <p:cNvPr id="118" name=""/>
            <p:cNvGrpSpPr/>
            <p:nvPr/>
          </p:nvGrpSpPr>
          <p:grpSpPr>
            <a:xfrm>
              <a:off x="4250520" y="1812960"/>
              <a:ext cx="4062240" cy="3836520"/>
              <a:chOff x="4250520" y="1812960"/>
              <a:chExt cx="4062240" cy="3836520"/>
            </a:xfrm>
          </p:grpSpPr>
          <p:sp>
            <p:nvSpPr>
              <p:cNvPr id="119" name=""/>
              <p:cNvSpPr/>
              <p:nvPr/>
            </p:nvSpPr>
            <p:spPr>
              <a:xfrm>
                <a:off x="5604480" y="18129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71480" y="282852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71480" y="406980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04480" y="50853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0520" y="406980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50520" y="282852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016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2972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0800000">
                <a:off x="729720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458892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88920" y="350568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7635600" y="350532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6139800" y="2517840"/>
                <a:ext cx="338400" cy="1184760"/>
              </a:xfrm>
              <a:prstGeom prst="upArrow">
                <a:avLst>
                  <a:gd name="adj1" fmla="val 33333"/>
                  <a:gd name="adj2" fmla="val 82875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4480" y="19256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Program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71480" y="294120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200" spc="-1" strike="noStrike">
                    <a:solidFill>
                      <a:srgbClr val="000000"/>
                    </a:solidFill>
                    <a:latin typeface="Trebuchet MS"/>
                  </a:rPr>
                  <a:t>Indentifik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71480" y="418248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Oblikov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04480" y="51980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Financ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50520" y="418248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Izvaj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50520" y="294120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Evalv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d projektne ideje do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316692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10-22T10:25:12Z</dcterms:modified>
  <cp:revision>19</cp:revision>
  <dc:subject/>
  <dc:title>Diapozitiv 1</dc:title>
</cp:coreProperties>
</file>